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A9C-68D4-4662-96D9-6E38ECC9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39A-EBE2-4302-B202-BDC656E9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595-B485-47E1-B037-5BD96086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18C-D413-4340-8BD1-343ACAA8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965-A1B9-4F2C-9478-1945C4D8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321-D9E0-4374-82F0-72E3EEB8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18F-D31A-449A-9ABE-7D2583AC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14C-EEB6-48E4-BF1E-EF5B5A41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634-DA91-4D00-93B7-A1B0B872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A77-FF1C-4468-A864-016DDE8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EF9-677D-4FAF-80E1-3B09737C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297-27EC-4C97-BC41-996D2884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E21A-2A45-41BD-803B-8BF529C42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6:49:21Z</dcterms:created>
  <dc:creator>Grupo Editorial</dc:creator>
  <dc:description/>
  <dc:language>en-US</dc:language>
  <cp:lastModifiedBy>Grupo Editorial</cp:lastModifiedBy>
  <dcterms:modified xsi:type="dcterms:W3CDTF">2001-11-21T16:52:40Z</dcterms:modified>
  <cp:revision>1</cp:revision>
  <dc:subject/>
  <dc:title>Sin título de diapositiva</dc:title>
</cp:coreProperties>
</file>